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21B49-AD13-4DD3-AA5C-9103B8A58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F332A-30D3-4933-BD89-AA8E64135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252F5-23DD-4791-9903-F3393D427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9B96F-950C-4F28-9CA8-B0B10F0EC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9C4BE-F67B-411D-9ABD-81FEC8D96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A44C6-6E19-4374-8367-209413F81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4781A-BBD5-45A3-B891-1960A430F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C598D-A079-477F-905F-09DC15579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E1471-9282-4380-8FCB-825078093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C328D-A87A-4891-9013-FBA09D641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550C-0473-4A46-8B27-4930E8C8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4F68-7024-46F3-97CA-338509CB1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C1DD4-A757-4AED-AB51-A7A0B2AE5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4E8EC-071F-46CD-9202-C73646AD1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3BD92-D92D-41E7-93B7-DC8B828B3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77674-D89C-49D9-8D8C-DE4F61927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8458C-2A06-4223-9260-042F2BB6C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0E253-6340-448D-941A-2EF5273B7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9CEDE-7148-4C78-9147-B9694DF2A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DE781-2E41-4B00-A31B-7B2CEA476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0C0F-2014-47D2-8DFF-4742D68A8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F6CE-D172-4B64-83CD-F79B35A5E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6EAA7-2805-4BA9-AF76-D970414C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2910-0AD1-46F3-A1A4-B9A64896F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4C98-00F2-4DE5-8CBA-A69331443A2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3101-450D-4C81-87C2-AF9C44E046A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peer_feedback.htm" TargetMode="External"/><Relationship Id="rId2" Type="http://schemas.openxmlformats.org/officeDocument/2006/relationships/hyperlink" Target="http://educate.intel.com/en/AssessingProjects/AssessmentStrategies/EncouragingSelfDirectionAndCollaboration/ap_group_presentation.htm" TargetMode="External"/><Relationship Id="rId3" Type="http://schemas.openxmlformats.org/officeDocument/2006/relationships/hyperlink" Target="http://educate.intel.com/en/AssessingProjects/AssessmentStrategies/EncouragingSelfDirectionAndCollaboration/ap_peer_presentation.htm" TargetMode="External"/><Relationship Id="rId4" Type="http://schemas.openxmlformats.org/officeDocument/2006/relationships/hyperlink" Target="http://educate.intel.com/en/AssessingProjects/AssessmentStrategies/EncouragingSelfDirectionAndCollaboration/ap_questions_assess_critical_thinking.htm" TargetMode="External"/><Relationship Id="rId5" Type="http://schemas.openxmlformats.org/officeDocument/2006/relationships/hyperlink" Target="http://educate.intel.com/en/AssessingProjects/AssessmentStrategies/EncouragingSelfDirectionAndCollaboration/ap_peer_feedback_form.htm"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observation_groups.htm" TargetMode="External"/><Relationship Id="rId2" Type="http://schemas.openxmlformats.org/officeDocument/2006/relationships/hyperlink" Target="http://educate.intel.com/en/AssessingProjects/AssessmentStrategies/EncouragingSelfDirectionAndCollaboration/ap_collaboration_checklist.htm" TargetMode="External"/><Relationship Id="rId3" Type="http://schemas.openxmlformats.org/officeDocument/2006/relationships/hyperlink" Target="http://educate.intel.com/en/AssessingProjects/AssessmentStrategies/EncouragingSelfDirectionAndCollaboration/ap_questions_observing_group.htm" TargetMode="External"/><Relationship Id="rId4" Type="http://schemas.openxmlformats.org/officeDocument/2006/relationships/hyperlink" Target="http://educate.intel.com/en/AssessingProjects/AssessmentStrategies/EncouragingSelfDirectionAndCollaboration/ap_self_assessment_group.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ducate.intel.com/en/AssessingProjects/AssessmentStrategies/MonitoringProgress/ap_informal_observations_anecdotal_notes.htm" TargetMode="External"/><Relationship Id="rId2" Type="http://schemas.openxmlformats.org/officeDocument/2006/relationships/hyperlink" Target="http://educate.intel.com/en/AssessingProjects/AssessmentStrategies/MonitoringProgress/ap_anecdotal_examples.htm" TargetMode="External"/><Relationship Id="rId3" Type="http://schemas.openxmlformats.org/officeDocument/2006/relationships/hyperlink" Target="http://educate.intel.com/en/AssessingProjects/AssessmentStrategies/MonitoringProgress/ap_observation_checklist.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ducate.intel.com/en/AssessingProjects/AssessmentStrategies/CheckingUnderstanding/ap_written_journals.htm" TargetMode="External"/><Relationship Id="rId2" Type="http://schemas.openxmlformats.org/officeDocument/2006/relationships/hyperlink" Target="http://educate.intel.com/en/AssessingProjects/AssessmentStrategies/CheckingUnderstanding/ap_journal_prompts.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ducate.intel.com/en/AssessingProjects/AssessmentStrategies/CheckingUnderstanding/ap_structured_interviews.htm" TargetMode="External"/><Relationship Id="rId2" Type="http://schemas.openxmlformats.org/officeDocument/2006/relationships/hyperlink" Target="http://educate.intel.com/en/AssessingProjects/AssessmentStrategies/CheckingUnderstanding/ap_conference_questions.htm" TargetMode="External"/><Relationship Id="rId3" Type="http://schemas.openxmlformats.org/officeDocument/2006/relationships/hyperlink" Target="http://educate.intel.com/en/AssessingProjects/AssessmentStrategies/CheckingUnderstanding/ap_students_observing_thinking.htm" TargetMode="External"/><Relationship Id="rId4" Type="http://schemas.openxmlformats.org/officeDocument/2006/relationships/hyperlink" Target="http://educate.intel.com/en/AssessingProjects/AssessmentStrategies/CheckingUnderstanding/ap_questions_for_assessing_thinking.ht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ducate.intel.com/en/AssessingProjects/AssessmentStrategies/CheckingUnderstanding/ap_informal_questioning.htm" TargetMode="External"/><Relationship Id="rId2" Type="http://schemas.openxmlformats.org/officeDocument/2006/relationships/hyperlink" Target="http://educate.intel.com/en/AssessingProjects/AssessmentStrategies/CheckingUnderstanding/ap_informal_question_examples.htm"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ducate.intel.com/en/AssessingProjects/AssessmentStrategies/DemonstratingUnderstanding/ap_perform_assessment.htm" TargetMode="External"/><Relationship Id="rId2" Type="http://schemas.openxmlformats.org/officeDocument/2006/relationships/hyperlink" Target="http://educate.intel.com/en/AssessingProjects/AssessmentStrategies/DemonstratingUnderstanding/ap_rubrics_scoring_guides.ht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ducate.intel.com/en/AssessingProjects/AssessmentStrategies/DemonstratingUnderstanding/ap_perform_assessment.htm" TargetMode="External"/><Relationship Id="rId2" Type="http://schemas.openxmlformats.org/officeDocument/2006/relationships/hyperlink" Target="http://educate.intel.com/en/AssessingProjects/AssessmentStrategies/DemonstratingUnderstanding/ap_rubrics_scoring_guides.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ducate.intel.com/en/AssessingProjects/AssessmentStrategies/GaugingStudentNeeds/ap_concept_maps.htm" TargetMode="External"/><Relationship Id="rId2" Type="http://schemas.openxmlformats.org/officeDocument/2006/relationships/hyperlink" Target="http://educate.intel.com/en/AssessingProjects/AssessmentStrategies/GaugingStudentNeeds/ap_sequencing_activities.htm" TargetMode="External"/><Relationship Id="rId3" Type="http://schemas.openxmlformats.org/officeDocument/2006/relationships/hyperlink" Target="http://educate.intel.com/en/AssessingProjects/AssessmentStrategies/GaugingStudentNeeds/ap_classification.htm" TargetMode="External"/><Relationship Id="rId4" Type="http://schemas.openxmlformats.org/officeDocument/2006/relationships/hyperlink" Target="http://educate.intel.com/en/AssessingProjects/AssessmentStrategies/GaugingStudentNeeds/ap_prioritized_lists.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ducate.intel.com/en/AssessingProjects/AssessmentStrategies/GaugingStudentNeeds/ap_kwl.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ducate.intel.com/en/AssessingProjects/AssessmentStrategies/GaugingStudentNeeds/ap_brainstorming.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project_plans.htm" TargetMode="External"/><Relationship Id="rId2" Type="http://schemas.openxmlformats.org/officeDocument/2006/relationships/hyperlink" Target="http://educate.intel.com/en/AssessingProjects/AssessmentStrategies/EncouragingSelfDirectionAndCollaboration/ap_managing_my_project.htm" TargetMode="External"/><Relationship Id="rId3" Type="http://schemas.openxmlformats.org/officeDocument/2006/relationships/hyperlink" Target="http://educate.intel.com/en/AssessingProjects/AssessmentStrategies/EncouragingSelfDirectionAndCollaboration/ap_assess_self_direction.htm" TargetMode="External"/><Relationship Id="rId4" Type="http://schemas.openxmlformats.org/officeDocument/2006/relationships/hyperlink" Target="http://educate.intel.com/en/AssessingProjects/AssessmentStrategies/EncouragingSelfDirectionAndCollaboration/ap_project_plan_examples1.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self_assessment.htm" TargetMode="External"/><Relationship Id="rId2" Type="http://schemas.openxmlformats.org/officeDocument/2006/relationships/hyperlink" Target="http://educate.intel.com/en/AssessingProjects/AssessmentStrategies/EncouragingSelfDirectionAndCollaboration/ap_primary_reflection_checklist.htm" TargetMode="External"/><Relationship Id="rId3" Type="http://schemas.openxmlformats.org/officeDocument/2006/relationships/hyperlink" Target="http://educate.intel.com/en/AssessingProjects/AssessmentStrategies/EncouragingSelfDirectionAndCollaboration/ap_methods_to_foster_reflection.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1547640" y="0"/>
            <a:ext cx="6983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Strategii de Evaluare</a:t>
            </a:r>
            <a:endParaRPr b="0" lang="en-US" sz="3000" spc="-1" strike="noStrike">
              <a:solidFill>
                <a:srgbClr val="ffffff"/>
              </a:solidFill>
              <a:latin typeface="Arial"/>
            </a:endParaRPr>
          </a:p>
        </p:txBody>
      </p:sp>
      <p:sp>
        <p:nvSpPr>
          <p:cNvPr id="98" name=""/>
          <p:cNvSpPr/>
          <p:nvPr/>
        </p:nvSpPr>
        <p:spPr>
          <a:xfrm>
            <a:off x="250920" y="765000"/>
            <a:ext cx="8893080" cy="561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Gauging Needs ( Masurarea nevoilor )</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 </a:t>
            </a:r>
            <a:r>
              <a:rPr b="0" lang="en-US" sz="3000" spc="-1" strike="noStrike">
                <a:solidFill>
                  <a:srgbClr val="b2b2b2"/>
                </a:solidFill>
                <a:latin typeface="Arial"/>
              </a:rPr>
              <a:t>Developing Independent Learners (Dezvoltarea invatarii independente)</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 </a:t>
            </a:r>
            <a:r>
              <a:rPr b="0" lang="en-US" sz="3000" spc="-1" strike="noStrike">
                <a:solidFill>
                  <a:srgbClr val="b2b2b2"/>
                </a:solidFill>
                <a:latin typeface="Arial"/>
              </a:rPr>
              <a:t>Monitoring Progress  ( Monitorizarea progresului)</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Checking for Understanding and Encouraging Metacognition   ( Verificarea pentru invatarea si incurajare a metacognitiei )</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Demonstrating Understanding and Skill </a:t>
            </a:r>
            <a:br>
              <a:rPr sz="3000"/>
            </a:br>
            <a:r>
              <a:rPr b="0" lang="en-US" sz="3000" spc="-1" strike="noStrike">
                <a:solidFill>
                  <a:srgbClr val="b2b2b2"/>
                </a:solidFill>
                <a:latin typeface="Arial"/>
              </a:rPr>
              <a:t>(Demonstrarea intelegerii si a abilitatil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2.Developing Independent Learners </a:t>
            </a:r>
            <a:br>
              <a:rPr sz="4000"/>
            </a:br>
            <a:r>
              <a:rPr b="0" lang="en-US" sz="4000" spc="-1" strike="noStrike">
                <a:solidFill>
                  <a:srgbClr val="b2b2b2"/>
                </a:solidFill>
                <a:latin typeface="Arial"/>
              </a:rPr>
              <a:t>(Dezvoltarea invatarii independente)</a:t>
            </a:r>
            <a:endParaRPr b="0" lang="en-US" sz="4000" spc="-1" strike="noStrike">
              <a:solidFill>
                <a:srgbClr val="b2b2b2"/>
              </a:solidFill>
              <a:latin typeface="Arial"/>
            </a:endParaRPr>
          </a:p>
        </p:txBody>
      </p:sp>
      <p:graphicFrame>
        <p:nvGraphicFramePr>
          <p:cNvPr id="116" name=""/>
          <p:cNvGraphicFramePr/>
          <p:nvPr/>
        </p:nvGraphicFramePr>
        <p:xfrm>
          <a:off x="457200" y="1600200"/>
          <a:ext cx="8229600" cy="4761000"/>
        </p:xfrm>
        <a:graphic>
          <a:graphicData uri="http://schemas.openxmlformats.org/drawingml/2006/table">
            <a:tbl>
              <a:tblPr/>
              <a:tblGrid>
                <a:gridCol w="2098800"/>
                <a:gridCol w="2087280"/>
                <a:gridCol w="2005200"/>
                <a:gridCol w="2038320"/>
              </a:tblGrid>
              <a:tr h="1851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0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eer Feedback</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terevaluar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Realizarea conexiunii inverse in perechi ii ajuta pe elevi sa internalizeze caracteristicile calitatii muncii prin evaluarea muncii perechii sale</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99ff99"/>
                          </a:solidFill>
                          <a:latin typeface="Arial"/>
                        </a:rPr>
                        <a:t>Se utilizeaza pe parcursul derularii proiectului, prin intermediul discutiilor de grup, dupa realizarea unei schite sau la finalul proiectulu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Checklis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Scoring Guide or Rubric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Promp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rPr>
                        <a:t>Form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2. Developing Independent Learners </a:t>
            </a:r>
            <a:br>
              <a:rPr sz="3000"/>
            </a:br>
            <a:r>
              <a:rPr b="0" lang="en-US" sz="3000" spc="-1" strike="noStrike">
                <a:solidFill>
                  <a:srgbClr val="b2b2b2"/>
                </a:solidFill>
                <a:latin typeface="Arial"/>
              </a:rPr>
              <a:t>(Dezvoltarea invatarii independente)</a:t>
            </a:r>
            <a:endParaRPr b="0" lang="en-US" sz="3000" spc="-1" strike="noStrike">
              <a:solidFill>
                <a:srgbClr val="b2b2b2"/>
              </a:solidFill>
              <a:latin typeface="Arial"/>
            </a:endParaRPr>
          </a:p>
        </p:txBody>
      </p:sp>
      <p:graphicFrame>
        <p:nvGraphicFramePr>
          <p:cNvPr id="118" name=""/>
          <p:cNvGraphicFramePr/>
          <p:nvPr/>
        </p:nvGraphicFramePr>
        <p:xfrm>
          <a:off x="395280" y="1249200"/>
          <a:ext cx="8229600" cy="5608800"/>
        </p:xfrm>
        <a:graphic>
          <a:graphicData uri="http://schemas.openxmlformats.org/drawingml/2006/table">
            <a:tbl>
              <a:tblPr/>
              <a:tblGrid>
                <a:gridCol w="2098800"/>
                <a:gridCol w="2087280"/>
                <a:gridCol w="2005200"/>
                <a:gridCol w="2038320"/>
              </a:tblGrid>
              <a:tr h="1851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Observation of Group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Observarea muncii unui grup asigura evaluarea aptitudinilor de colaborare.</a:t>
                      </a:r>
                      <a:r>
                        <a:rPr b="0" lang="en-US" sz="2800" spc="-1" strike="noStrike">
                          <a:solidFill>
                            <a:srgbClr val="3399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pe parcursul proiectului prin luare de notite, folosind liste in care sa bifati, si oferind sfaturi in timp ce grupurile lucreaza impreuna pentru a termina sarcinile. Elevii isi evalueaza de asemenea munca grupului din care fac parte folosind liste in care sa bifeze si reflectii</a:t>
                      </a:r>
                      <a:r>
                        <a:rPr b="0" lang="en-US" sz="1600" spc="-1" strike="noStrike">
                          <a:solidFill>
                            <a:srgbClr val="99ff99"/>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Checklis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Question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Reflection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Monitoring Progress </a:t>
            </a:r>
            <a:br>
              <a:rPr sz="3000"/>
            </a:br>
            <a:r>
              <a:rPr b="0" lang="en-US" sz="3000" spc="-1" strike="noStrike">
                <a:solidFill>
                  <a:srgbClr val="b2b2b2"/>
                </a:solidFill>
                <a:latin typeface="Arial"/>
              </a:rPr>
              <a:t>(Monitorizarea progresului)</a:t>
            </a:r>
            <a:endParaRPr b="0" lang="en-US" sz="3000" spc="-1" strike="noStrike">
              <a:solidFill>
                <a:srgbClr val="b2b2b2"/>
              </a:solidFill>
              <a:latin typeface="Arial"/>
            </a:endParaRPr>
          </a:p>
        </p:txBody>
      </p:sp>
      <p:graphicFrame>
        <p:nvGraphicFramePr>
          <p:cNvPr id="120" name=""/>
          <p:cNvGraphicFramePr/>
          <p:nvPr/>
        </p:nvGraphicFramePr>
        <p:xfrm>
          <a:off x="395280" y="1484280"/>
          <a:ext cx="8229600" cy="405144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7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Informal Observations and Anecdotal Note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3399ff"/>
                          </a:solidFill>
                          <a:latin typeface="Arial"/>
                        </a:rPr>
                        <a:t>Observatii care furnizeaza informatii pentru evaluarea final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99"/>
                          </a:solidFill>
                          <a:latin typeface="Arial"/>
                        </a:rPr>
                        <a:t>Pe parcursul intregii unitati de invatare, munca  grupului sau individuala. Se colecteaza intr-un fol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Notes collected in individual or group folders</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rPr>
                        <a:t>Checklists</a:t>
                      </a:r>
                      <a:r>
                        <a:rPr b="0" lang="en-US" sz="1800" spc="-1" strike="noStrike" u="sng">
                          <a:solidFill>
                            <a:srgbClr val="ffffff"/>
                          </a:solidFill>
                          <a:uFillTx/>
                          <a:latin typeface="Arial"/>
                        </a:rPr>
                        <a:t> to help focus expected behavior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22" name=""/>
          <p:cNvGraphicFramePr/>
          <p:nvPr/>
        </p:nvGraphicFramePr>
        <p:xfrm>
          <a:off x="395280" y="1484280"/>
          <a:ext cx="8229600" cy="4551480"/>
        </p:xfrm>
        <a:graphic>
          <a:graphicData uri="http://schemas.openxmlformats.org/drawingml/2006/table">
            <a:tbl>
              <a:tblPr/>
              <a:tblGrid>
                <a:gridCol w="2098800"/>
                <a:gridCol w="2087280"/>
                <a:gridCol w="2005200"/>
                <a:gridCol w="2038320"/>
              </a:tblGrid>
              <a:tr h="1440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1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Written Journal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ff"/>
                          </a:solidFill>
                          <a:latin typeface="Arial"/>
                        </a:rPr>
                        <a:t>Jurnalele sunt reflectii scrise, mai intinse, asupra invatarii . In completarea reflectiilor, intrarile  evidentiaza abilitatile specifice de gandire la momente cheie ale proiectulu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99"/>
                          </a:solidFill>
                          <a:latin typeface="Arial"/>
                        </a:rPr>
                        <a:t>Folositi pe parcursul proiectului, la momente cheie si la sfarsitul proiectulu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Prompts for Entries</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urnal Review Plan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 pentru  invatarea  si incurajare a metacognitiei)</a:t>
            </a:r>
            <a:endParaRPr b="0" lang="en-US" sz="2000" spc="-1" strike="noStrike">
              <a:solidFill>
                <a:srgbClr val="b2b2b2"/>
              </a:solidFill>
              <a:latin typeface="Arial"/>
            </a:endParaRPr>
          </a:p>
        </p:txBody>
      </p:sp>
      <p:graphicFrame>
        <p:nvGraphicFramePr>
          <p:cNvPr id="124" name=""/>
          <p:cNvGraphicFramePr/>
          <p:nvPr/>
        </p:nvGraphicFramePr>
        <p:xfrm>
          <a:off x="395280" y="1484280"/>
          <a:ext cx="8229600" cy="420840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3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and Photo Journal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ff"/>
                          </a:solidFill>
                          <a:latin typeface="Arial"/>
                        </a:rPr>
                        <a:t>Aceste jurnale contin o documentatie vizuala a progresului, reactiilor si reflectiilor sau demonstreaza dezvoltarea abilitatilor.</a:t>
                      </a:r>
                      <a:r>
                        <a:rPr b="0" lang="en-US" sz="1800" spc="-1" strike="noStrike">
                          <a:solidFill>
                            <a:srgbClr val="3399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99"/>
                          </a:solidFill>
                          <a:latin typeface="Arial"/>
                        </a:rPr>
                        <a:t>Folositi pe parcursul proiectului, dar pot fi integrate in produsele sau performantele final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line of Photo Sequence and Topic (shot lis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for Video Scen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26" name=""/>
          <p:cNvGraphicFramePr/>
          <p:nvPr/>
        </p:nvGraphicFramePr>
        <p:xfrm>
          <a:off x="395280" y="1484280"/>
          <a:ext cx="8229600" cy="5322960"/>
        </p:xfrm>
        <a:graphic>
          <a:graphicData uri="http://schemas.openxmlformats.org/drawingml/2006/table">
            <a:tbl>
              <a:tblPr/>
              <a:tblGrid>
                <a:gridCol w="2098800"/>
                <a:gridCol w="2087280"/>
                <a:gridCol w="2005200"/>
                <a:gridCol w="2038320"/>
              </a:tblGrid>
              <a:tr h="114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7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Structured Interviews</a:t>
                      </a:r>
                      <a:r>
                        <a:rPr b="0" lang="en-US" sz="2000" spc="-1" strike="noStrike">
                          <a:solidFill>
                            <a:srgbClr val="ffffff"/>
                          </a:solidFill>
                          <a:latin typeface="Arial"/>
                        </a:rPr>
                        <a:t> and Observation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iuri si observatii structurate )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99ff"/>
                          </a:solidFill>
                          <a:latin typeface="Arial"/>
                        </a:rPr>
                        <a:t>Interviurile orale formale sunt programate pentru fiecare in parte sau echipe pentru a demonstra nivelul de intelegere.Intrebarile din interviu ii pun pe elevi sa explice si sa dea motive nivelul lor de intelegere. Observatiile structurate sunt asemanatoare , dar sunt folosite pentru aptitudini, procese sau performantele examenelor si pot fi realizate si de catre elevi.</a:t>
                      </a:r>
                      <a:r>
                        <a:rPr b="0" lang="it-IT"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Folositi interviuri structurate sau observatii pe parcursul proiectulu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Conference Questions</a:t>
                      </a:r>
                      <a:r>
                        <a:rPr b="0" lang="en-US" sz="2000" spc="-1" strike="noStrike" u="sng">
                          <a:solidFill>
                            <a:srgbClr val="ffffff"/>
                          </a:solidFill>
                          <a:uFillTx/>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3"/>
                        </a:rPr>
                        <a:t>Observation by Students</a:t>
                      </a:r>
                      <a:r>
                        <a:rPr b="0" lang="en-US" sz="2000" spc="-1" strike="noStrike" u="sng">
                          <a:solidFill>
                            <a:srgbClr val="ffffff"/>
                          </a:solidFill>
                          <a:uFillTx/>
                          <a:latin typeface="Arial"/>
                        </a:rPr>
                        <a:t> </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4"/>
                        </a:rPr>
                        <a:t>Observation by Teach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28" name=""/>
          <p:cNvGraphicFramePr/>
          <p:nvPr/>
        </p:nvGraphicFramePr>
        <p:xfrm>
          <a:off x="395280" y="1484280"/>
          <a:ext cx="8229600" cy="512928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Informal Questioning</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Intrebarile le permit elevilor sa isi exprime deschis ideile si gandurile, le permit sa reflecteze asupra explicatiilor altor elevi si , de asemenea, sa faca legaturi.  Folositi pentru a asigura competitii, pentru a fixa cunostiintele elevilor si recapitulati lectiile daca este necesar.</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pe parcursul proiectului, adeseori in timpul lucrului in grupuri sau in discutiile in clasa.</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Question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30" name=""/>
          <p:cNvGraphicFramePr/>
          <p:nvPr/>
        </p:nvGraphicFramePr>
        <p:xfrm>
          <a:off x="395280" y="1557360"/>
          <a:ext cx="8229600" cy="405144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7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and Oral Tests and Quizze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Testele si quiz-urile ofera o evidenta directa a acumularii si intelegerii cunostiintelor</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la momente cheie ale proiectului si la sfarsitul sau</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Quiz Question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2" name=""/>
          <p:cNvGraphicFramePr/>
          <p:nvPr/>
        </p:nvGraphicFramePr>
        <p:xfrm>
          <a:off x="395280" y="1557360"/>
          <a:ext cx="8229600" cy="475308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roducts</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Produs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Produsele sunt lucrurile pe care elevii le creaza si le construiesc pentru a prezenta invatar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s are things that students create and build that show learning. (Examples in table belo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Deseori la terminarea proiectului, dar depinde de produs si de marimea proiectului</a:t>
                      </a:r>
                      <a:endParaRPr b="0" lang="en-US" sz="1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completed at end of project, but depends on product and length of project</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Rubrics or Scoring Guides</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ubrics= Grila de evaluare criteria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ori)</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em de not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4" name=""/>
          <p:cNvGraphicFramePr/>
          <p:nvPr/>
        </p:nvGraphicFramePr>
        <p:xfrm>
          <a:off x="395280" y="1434960"/>
          <a:ext cx="8229600" cy="542304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5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erformance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Performantele sunt demonstratiile, produsele si evenimentele pe care elevii le planifica si conduc pentru a demonstra invatar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s are demonstrations, productions, and events that students design and conduct to show learning. (Examples in table belo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Prezentat deseori la sfarsitul proiectului, dar depinde de produs si de lungimea proiectului</a:t>
                      </a:r>
                      <a:endParaRPr b="0" lang="en-US" sz="1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presented at end of project, but depends on product and length of project</a:t>
                      </a:r>
                      <a:r>
                        <a:rPr b="0" lang="en-US" sz="2800" spc="-1" strike="noStrike">
                          <a:solidFill>
                            <a:srgbClr val="ffffff"/>
                          </a:solidFill>
                          <a:latin typeface="Arial"/>
                        </a:rPr>
                        <a:t>.</a:t>
                      </a:r>
                      <a:r>
                        <a:rPr b="0" lang="en-US" sz="2800" spc="-1" strike="noStrike">
                          <a:solidFill>
                            <a:srgbClr val="99ff99"/>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Rubrics or Scoring Guide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9" name=""/>
          <p:cNvGraphicFramePr/>
          <p:nvPr/>
        </p:nvGraphicFramePr>
        <p:xfrm>
          <a:off x="250920" y="189000"/>
          <a:ext cx="8713800" cy="2592360"/>
        </p:xfrm>
        <a:graphic>
          <a:graphicData uri="http://schemas.openxmlformats.org/drawingml/2006/table">
            <a:tbl>
              <a:tblPr/>
              <a:tblGrid>
                <a:gridCol w="2449440"/>
                <a:gridCol w="6264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TERME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emnificati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BR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Grila de evaluare criteriala (descriptori) 4/3/2/1- se descriu performantele elevilor in termeni de competente pe nive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LI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ista de verific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RRING GUID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arem de notare/ grila de scor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0" name=""/>
          <p:cNvSpPr/>
          <p:nvPr/>
        </p:nvSpPr>
        <p:spPr>
          <a:xfrm>
            <a:off x="179280" y="2924280"/>
            <a:ext cx="8964720" cy="37965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99ff"/>
                </a:solidFill>
                <a:latin typeface="Arial"/>
              </a:rPr>
              <a:t>COMPETENTE CARE SUNT URMARITE</a:t>
            </a:r>
            <a:endParaRPr b="0" lang="en-US" sz="3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direction</a:t>
            </a:r>
            <a:r>
              <a:rPr b="0" lang="en-US" sz="2000" spc="-1" strike="noStrike">
                <a:solidFill>
                  <a:srgbClr val="ffffff"/>
                </a:solidFill>
                <a:latin typeface="Arial"/>
              </a:rPr>
              <a:t>     -&gt;   autonom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assesment</a:t>
            </a:r>
            <a:r>
              <a:rPr b="0" lang="en-US" sz="2000" spc="-1" strike="noStrike">
                <a:solidFill>
                  <a:srgbClr val="ffffff"/>
                </a:solidFill>
                <a:latin typeface="Arial"/>
              </a:rPr>
              <a:t>  -&gt;  auto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peer feedback</a:t>
            </a:r>
            <a:r>
              <a:rPr b="0" lang="en-US" sz="2000" spc="-1" strike="noStrike">
                <a:solidFill>
                  <a:srgbClr val="ffffff"/>
                </a:solidFill>
                <a:latin typeface="Arial"/>
              </a:rPr>
              <a:t>    -&gt;  inter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flection </a:t>
            </a:r>
            <a:r>
              <a:rPr b="0" lang="en-US" sz="2000" spc="-1" strike="noStrike">
                <a:solidFill>
                  <a:srgbClr val="ffffff"/>
                </a:solidFill>
                <a:latin typeface="Arial"/>
              </a:rPr>
              <a:t>           -&gt;  reflectarea asupra propriei invatari</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search </a:t>
            </a:r>
            <a:r>
              <a:rPr b="0" lang="en-US" sz="2000" spc="-1" strike="noStrike">
                <a:solidFill>
                  <a:srgbClr val="ffffff"/>
                </a:solidFill>
                <a:latin typeface="Arial"/>
              </a:rPr>
              <a:t>           -&gt;  investigat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laboration</a:t>
            </a:r>
            <a:r>
              <a:rPr b="0" lang="en-US" sz="2000" spc="-1" strike="noStrike">
                <a:solidFill>
                  <a:srgbClr val="ffffff"/>
                </a:solidFill>
                <a:latin typeface="Arial"/>
              </a:rPr>
              <a:t>      -&gt;  colabor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munication</a:t>
            </a:r>
            <a:r>
              <a:rPr b="0" lang="en-US" sz="2000" spc="-1" strike="noStrike">
                <a:solidFill>
                  <a:srgbClr val="ffffff"/>
                </a:solidFill>
                <a:latin typeface="Arial"/>
              </a:rPr>
              <a:t>    -&gt;  comunic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6" name=""/>
          <p:cNvGraphicFramePr/>
          <p:nvPr/>
        </p:nvGraphicFramePr>
        <p:xfrm>
          <a:off x="395280" y="1557360"/>
          <a:ext cx="8229600" cy="4200480"/>
        </p:xfrm>
        <a:graphic>
          <a:graphicData uri="http://schemas.openxmlformats.org/drawingml/2006/table">
            <a:tbl>
              <a:tblPr/>
              <a:tblGrid>
                <a:gridCol w="2098800"/>
                <a:gridCol w="2149200"/>
                <a:gridCol w="1943280"/>
                <a:gridCol w="203832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folio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Portofoliile permit evaluarea progresului si performantele elevilor pe parcursul unitatii de invatar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folios allow for the assessment of students' progress, processes, and performance over ti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Accumulate work and reflections over the course of a project, semester, class, or year.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li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brics or Scoring Guide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lection Question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8" name=""/>
          <p:cNvGraphicFramePr/>
          <p:nvPr/>
        </p:nvGraphicFramePr>
        <p:xfrm>
          <a:off x="324000" y="981000"/>
          <a:ext cx="8229600" cy="5667480"/>
        </p:xfrm>
        <a:graphic>
          <a:graphicData uri="http://schemas.openxmlformats.org/drawingml/2006/table">
            <a:tbl>
              <a:tblPr/>
              <a:tblGrid>
                <a:gridCol w="2098800"/>
                <a:gridCol w="2149200"/>
                <a:gridCol w="1943280"/>
                <a:gridCol w="203832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Led Conferences</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Conferintele elevilor, necesita organizare si comunicare a propriei invatari, impartasirea scopului, a muncii, a autoevaluari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led conferences require students to organize and communicate their learning by sharing their goals, work, self assessments, and reflections, usuallyi with parent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Schedule at the beginning of the year to help set goals and inform parents of expectations and at the end of a project or the year to reflect on growth</a:t>
                      </a:r>
                      <a:r>
                        <a:rPr b="0" lang="en-US" sz="2800" spc="-1" strike="noStrike">
                          <a:solidFill>
                            <a:srgbClr val="99ff99"/>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pts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640" y="260280"/>
            <a:ext cx="7416720" cy="648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40" name=""/>
          <p:cNvGraphicFramePr/>
          <p:nvPr/>
        </p:nvGraphicFramePr>
        <p:xfrm>
          <a:off x="250920" y="189000"/>
          <a:ext cx="8713800" cy="2592360"/>
        </p:xfrm>
        <a:graphic>
          <a:graphicData uri="http://schemas.openxmlformats.org/drawingml/2006/table">
            <a:tbl>
              <a:tblPr/>
              <a:tblGrid>
                <a:gridCol w="2449440"/>
                <a:gridCol w="6264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TERME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emnificati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BR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Grila de evaluare criteriala (descriptori) 4/3/2/1- se descriu performantele elevilor in termeni de competente pe nive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LI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ista de verific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RRING GUID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arem de notare/ grila de scor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1" name=""/>
          <p:cNvSpPr/>
          <p:nvPr/>
        </p:nvSpPr>
        <p:spPr>
          <a:xfrm>
            <a:off x="179280" y="3068640"/>
            <a:ext cx="896472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COMPETENTE CARE SUNT URMARIT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direction</a:t>
            </a:r>
            <a:r>
              <a:rPr b="0" lang="en-US" sz="2000" spc="-1" strike="noStrike">
                <a:solidFill>
                  <a:srgbClr val="ffffff"/>
                </a:solidFill>
                <a:latin typeface="Arial"/>
              </a:rPr>
              <a:t>     -&gt; autonom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assesment</a:t>
            </a:r>
            <a:r>
              <a:rPr b="0" lang="en-US" sz="2000" spc="-1" strike="noStrike">
                <a:solidFill>
                  <a:srgbClr val="ffffff"/>
                </a:solidFill>
                <a:latin typeface="Arial"/>
              </a:rPr>
              <a:t>  -&gt;auto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peer feedback</a:t>
            </a:r>
            <a:r>
              <a:rPr b="0" lang="en-US" sz="2000" spc="-1" strike="noStrike">
                <a:solidFill>
                  <a:srgbClr val="ffffff"/>
                </a:solidFill>
                <a:latin typeface="Arial"/>
              </a:rPr>
              <a:t>    -&gt; inter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flection </a:t>
            </a:r>
            <a:r>
              <a:rPr b="0" lang="en-US" sz="2000" spc="-1" strike="noStrike">
                <a:solidFill>
                  <a:srgbClr val="ffffff"/>
                </a:solidFill>
                <a:latin typeface="Arial"/>
              </a:rPr>
              <a:t>           -&gt; reflectarea asupra propriei invatari</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search </a:t>
            </a:r>
            <a:r>
              <a:rPr b="0" lang="en-US" sz="2000" spc="-1" strike="noStrike">
                <a:solidFill>
                  <a:srgbClr val="ffffff"/>
                </a:solidFill>
                <a:latin typeface="Arial"/>
              </a:rPr>
              <a:t>           -&gt; investigat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laboration</a:t>
            </a:r>
            <a:r>
              <a:rPr b="0" lang="en-US" sz="2000" spc="-1" strike="noStrike">
                <a:solidFill>
                  <a:srgbClr val="ffffff"/>
                </a:solidFill>
                <a:latin typeface="Arial"/>
              </a:rPr>
              <a:t>      -&gt; colabor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munication</a:t>
            </a:r>
            <a:r>
              <a:rPr b="0" lang="en-US" sz="2000" spc="-1" strike="noStrike">
                <a:solidFill>
                  <a:srgbClr val="ffffff"/>
                </a:solidFill>
                <a:latin typeface="Arial"/>
              </a:rPr>
              <a:t>    -&gt; comunic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 Gauging Needs</a:t>
            </a:r>
            <a:endParaRPr b="0" lang="en-US" sz="4000" spc="-1" strike="noStrike">
              <a:solidFill>
                <a:srgbClr val="b2b2b2"/>
              </a:solidFill>
              <a:latin typeface="Arial"/>
            </a:endParaRPr>
          </a:p>
        </p:txBody>
      </p:sp>
      <p:graphicFrame>
        <p:nvGraphicFramePr>
          <p:cNvPr id="102" name=""/>
          <p:cNvGraphicFramePr/>
          <p:nvPr/>
        </p:nvGraphicFramePr>
        <p:xfrm>
          <a:off x="468360" y="1700280"/>
          <a:ext cx="8229600" cy="4743360"/>
        </p:xfrm>
        <a:graphic>
          <a:graphicData uri="http://schemas.openxmlformats.org/drawingml/2006/table">
            <a:tbl>
              <a:tblPr/>
              <a:tblGrid>
                <a:gridCol w="2057400"/>
                <a:gridCol w="2128680"/>
                <a:gridCol w="2149560"/>
                <a:gridCol w="1893960"/>
              </a:tblGrid>
              <a:tr h="118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6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rea muncii elevului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Examinarea muncii elevului evidentiaza natura si gradul de intelegere al elevului, clarifica asteptarile de invatare pt elevi si ofera posibilitatea evaluarii calitatii unei teme predare anterior si implicatiile pentru instruirea practica</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Inainte de a planifica proiectul</a:t>
                      </a:r>
                      <a:r>
                        <a:rPr b="0" lang="it-IT" sz="1600" spc="-1" strike="noStrike">
                          <a:solidFill>
                            <a:srgbClr val="ffffff"/>
                          </a:solidFill>
                          <a:latin typeface="Arial"/>
                        </a:rPr>
                        <a:t>, </a:t>
                      </a:r>
                      <a:r>
                        <a:rPr b="0" lang="it-IT" sz="1600" spc="-1" strike="noStrike">
                          <a:solidFill>
                            <a:srgbClr val="99ff99"/>
                          </a:solidFill>
                          <a:latin typeface="Arial"/>
                        </a:rPr>
                        <a:t>uitati-va la munca elevului si intrebati-va : Ce aptitudini, cunostiinte si intelegeri demonstreaza elevul ? </a:t>
                      </a:r>
                      <a:r>
                        <a:rPr b="0" lang="en-US" sz="1600" spc="-1" strike="noStrike">
                          <a:solidFill>
                            <a:srgbClr val="99ff99"/>
                          </a:solidFill>
                          <a:latin typeface="Arial"/>
                        </a:rPr>
                        <a:t>Care este dovada? Care sunt notiunile intelese gresit? Exista anumite tipare pe care trebuie insistat?</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xemple de lucrari si examinari de la diferiti elev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xemple ale unui student de-a lungul timpulu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ate din test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1.Gauging Needs</a:t>
            </a:r>
            <a:r>
              <a:rPr b="0" lang="en-US" sz="4400" spc="-1" strike="noStrike">
                <a:solidFill>
                  <a:srgbClr val="b2b2b2"/>
                </a:solidFill>
                <a:latin typeface="Arial"/>
              </a:rPr>
              <a:t> </a:t>
            </a:r>
            <a:endParaRPr b="0" lang="en-US" sz="4400" spc="-1" strike="noStrike">
              <a:solidFill>
                <a:srgbClr val="b2b2b2"/>
              </a:solidFill>
              <a:latin typeface="Arial"/>
            </a:endParaRPr>
          </a:p>
        </p:txBody>
      </p:sp>
      <p:graphicFrame>
        <p:nvGraphicFramePr>
          <p:cNvPr id="104" name=""/>
          <p:cNvGraphicFramePr/>
          <p:nvPr/>
        </p:nvGraphicFramePr>
        <p:xfrm>
          <a:off x="468360" y="1197000"/>
          <a:ext cx="8229600" cy="5373720"/>
        </p:xfrm>
        <a:graphic>
          <a:graphicData uri="http://schemas.openxmlformats.org/drawingml/2006/table">
            <a:tbl>
              <a:tblPr/>
              <a:tblGrid>
                <a:gridCol w="2057400"/>
                <a:gridCol w="2128680"/>
                <a:gridCol w="1944720"/>
                <a:gridCol w="20988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oare grafi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Organizatoarele grafice ofera o reprezentare vizuala a procesului de intelegere si gandire a elevului la momentul curent si elucideaza prejudecatile.</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 </a:t>
                      </a:r>
                      <a:r>
                        <a:rPr b="0" lang="it-IT" sz="1600" spc="-1" strike="noStrike">
                          <a:solidFill>
                            <a:srgbClr val="99ff99"/>
                          </a:solidFill>
                          <a:latin typeface="Arial"/>
                        </a:rPr>
                        <a:t>inceputul unui proiect se obtin informatii de la elevi prin creearea unui organizator grafic pe o harta pentru a obtine o idee clara despre cunostiintele anterioare ale elevului. Puneti la dispozitie organizatori pentru fiecare elev si folositi pe perioada proiectului</a:t>
                      </a:r>
                      <a:r>
                        <a:rPr b="0" lang="en-US" sz="1600" spc="-1" strike="noStrike">
                          <a:solidFill>
                            <a:srgbClr val="99ff99"/>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en-US" sz="1600" spc="-1" strike="noStrike" u="sng">
                          <a:solidFill>
                            <a:srgbClr val="ffffcc"/>
                          </a:solidFill>
                          <a:uFillTx/>
                          <a:latin typeface="Arial"/>
                          <a:hlinkClick r:id="rId1"/>
                        </a:rPr>
                        <a:t>Concept Maps</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2"/>
                        </a:rPr>
                        <a:t>Sequencing Activities</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3"/>
                        </a:rPr>
                        <a:t>Classification Charts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4"/>
                        </a:rPr>
                        <a:t>Prioritized Lists</a:t>
                      </a:r>
                      <a:r>
                        <a:rPr b="0" lang="en-US" sz="400" spc="-1" strike="noStrike">
                          <a:solidFill>
                            <a:srgbClr val="ffffff"/>
                          </a:solidFill>
                          <a:latin typeface="Arial"/>
                        </a:rPr>
                        <a:t> </a:t>
                      </a:r>
                      <a:endParaRPr b="0" lang="en-US" sz="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Gauging Needs</a:t>
            </a:r>
            <a:endParaRPr b="0" lang="en-US" sz="4000" spc="-1" strike="noStrike">
              <a:solidFill>
                <a:srgbClr val="b2b2b2"/>
              </a:solidFill>
              <a:latin typeface="Arial"/>
            </a:endParaRPr>
          </a:p>
        </p:txBody>
      </p:sp>
      <p:graphicFrame>
        <p:nvGraphicFramePr>
          <p:cNvPr id="106" name=""/>
          <p:cNvGraphicFramePr/>
          <p:nvPr/>
        </p:nvGraphicFramePr>
        <p:xfrm>
          <a:off x="457200" y="1600200"/>
          <a:ext cx="8229600" cy="4884840"/>
        </p:xfrm>
        <a:graphic>
          <a:graphicData uri="http://schemas.openxmlformats.org/drawingml/2006/table">
            <a:tbl>
              <a:tblPr/>
              <a:tblGrid>
                <a:gridCol w="2057400"/>
                <a:gridCol w="2128680"/>
                <a:gridCol w="1944720"/>
                <a:gridCol w="20988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Know-Wonder-Learn (K-W-L) Chart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Hartile K-W-L ofera o structura  pentru elevi prin care sa se gandeasca la ce anume cunosc despre un subiect , sa vada ceea ce au invatat si ce mai au de invatat. </a:t>
                      </a:r>
                      <a:r>
                        <a:rPr b="0" lang="it-IT" sz="1600" spc="-1" strike="noStrike">
                          <a:solidFill>
                            <a:srgbClr val="3399ff"/>
                          </a:solidFill>
                          <a:latin typeface="Arial"/>
                        </a:rPr>
                        <a:t>Ofera elevilor posibilitatea sa faca ei legaturi, inainte de a fi explorat continutul in profunzi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la inceputul unui proiect</a:t>
                      </a:r>
                      <a:r>
                        <a:rPr b="0" lang="it-IT" sz="1600" spc="-1" strike="noStrike">
                          <a:solidFill>
                            <a:srgbClr val="ffffff"/>
                          </a:solidFill>
                          <a:latin typeface="Arial"/>
                        </a:rPr>
                        <a:t> , </a:t>
                      </a:r>
                      <a:r>
                        <a:rPr b="0" lang="it-IT" sz="1600" spc="-1" strike="noStrike">
                          <a:solidFill>
                            <a:srgbClr val="99ff99"/>
                          </a:solidFill>
                          <a:latin typeface="Arial"/>
                        </a:rPr>
                        <a:t>pe parcursul unei discutii in clasa sau individual in jurnal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en-US" sz="1600" spc="-1" strike="noStrike">
                          <a:solidFill>
                            <a:srgbClr val="ffffff"/>
                          </a:solidFill>
                          <a:latin typeface="Arial"/>
                        </a:rPr>
                        <a:t>Topic on chart paper or electronic white board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urna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1. Gauging Needs</a:t>
            </a:r>
            <a:r>
              <a:rPr b="0" lang="en-US" sz="4400" spc="-1" strike="noStrike">
                <a:solidFill>
                  <a:srgbClr val="b2b2b2"/>
                </a:solidFill>
                <a:latin typeface="Arial"/>
              </a:rPr>
              <a:t> </a:t>
            </a:r>
            <a:endParaRPr b="0" lang="en-US" sz="4400" spc="-1" strike="noStrike">
              <a:solidFill>
                <a:srgbClr val="b2b2b2"/>
              </a:solidFill>
              <a:latin typeface="Arial"/>
            </a:endParaRPr>
          </a:p>
        </p:txBody>
      </p:sp>
      <p:graphicFrame>
        <p:nvGraphicFramePr>
          <p:cNvPr id="108" name=""/>
          <p:cNvGraphicFramePr/>
          <p:nvPr/>
        </p:nvGraphicFramePr>
        <p:xfrm>
          <a:off x="468360" y="1197000"/>
          <a:ext cx="8229600" cy="5373720"/>
        </p:xfrm>
        <a:graphic>
          <a:graphicData uri="http://schemas.openxmlformats.org/drawingml/2006/table">
            <a:tbl>
              <a:tblPr/>
              <a:tblGrid>
                <a:gridCol w="2057400"/>
                <a:gridCol w="2128680"/>
                <a:gridCol w="1944720"/>
                <a:gridCol w="20988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Pair-Shar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imb de idei)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Think-Pair-Share le solicita elevilor sa se gandeasca la o intrebare, apoi sa faca pereche cu cineva , sa isi impartaseasca verbal raspunsurile si la sfarsit sa faca un rezumat al ideilor in beneficiul intregii clase.Aceasta ii ajuta pe elevi sa isi organizeze cunostiintele anterioar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la inceputul proiectului si in timpul discutiilor in clasa</a:t>
                      </a:r>
                      <a:r>
                        <a:rPr b="0" lang="en-US" sz="1600" spc="-1" strike="noStrike">
                          <a:solidFill>
                            <a:srgbClr val="99ff99"/>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 or promp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m for recording summaries and question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ebari sau raspunsur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uctura pentru  rezumate si intrebari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 Gauging Needs</a:t>
            </a:r>
            <a:endParaRPr b="0" lang="en-US" sz="4000" spc="-1" strike="noStrike">
              <a:solidFill>
                <a:srgbClr val="b2b2b2"/>
              </a:solidFill>
              <a:latin typeface="Arial"/>
            </a:endParaRPr>
          </a:p>
        </p:txBody>
      </p:sp>
      <p:graphicFrame>
        <p:nvGraphicFramePr>
          <p:cNvPr id="110" name=""/>
          <p:cNvGraphicFramePr/>
          <p:nvPr/>
        </p:nvGraphicFramePr>
        <p:xfrm>
          <a:off x="468360" y="2133720"/>
          <a:ext cx="8229600" cy="3355920"/>
        </p:xfrm>
        <a:graphic>
          <a:graphicData uri="http://schemas.openxmlformats.org/drawingml/2006/table">
            <a:tbl>
              <a:tblPr/>
              <a:tblGrid>
                <a:gridCol w="2057400"/>
                <a:gridCol w="2128680"/>
                <a:gridCol w="2005200"/>
                <a:gridCol w="2038320"/>
              </a:tblGrid>
              <a:tr h="1371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8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Brainstorming</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Elevii formuleaza termeni si idei in legatura cu un subiect si formeaza legaturi creative intre cunostiinte anterioare si noi posibilitat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Folositi la inceputul proiectului, in timpul discutiilor in clase, individual sau in grupuri mici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ic on chart paper or electronic white board</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2. Developing Independent Learners </a:t>
            </a:r>
            <a:br>
              <a:rPr sz="4000"/>
            </a:br>
            <a:r>
              <a:rPr b="0" lang="en-US" sz="4000" spc="-1" strike="noStrike">
                <a:solidFill>
                  <a:srgbClr val="b2b2b2"/>
                </a:solidFill>
                <a:latin typeface="Arial"/>
              </a:rPr>
              <a:t>(Dezvoltarea invatarii independente)</a:t>
            </a:r>
            <a:endParaRPr b="0" lang="en-US" sz="4000" spc="-1" strike="noStrike">
              <a:solidFill>
                <a:srgbClr val="b2b2b2"/>
              </a:solidFill>
              <a:latin typeface="Arial"/>
            </a:endParaRPr>
          </a:p>
        </p:txBody>
      </p:sp>
      <p:graphicFrame>
        <p:nvGraphicFramePr>
          <p:cNvPr id="112" name=""/>
          <p:cNvGraphicFramePr/>
          <p:nvPr/>
        </p:nvGraphicFramePr>
        <p:xfrm>
          <a:off x="457200" y="1600200"/>
          <a:ext cx="8229600" cy="4151160"/>
        </p:xfrm>
        <a:graphic>
          <a:graphicData uri="http://schemas.openxmlformats.org/drawingml/2006/table">
            <a:tbl>
              <a:tblPr/>
              <a:tblGrid>
                <a:gridCol w="2057400"/>
                <a:gridCol w="21286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7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roject Plan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Ajuta studentii sa inteleaga  obiectivele urmarite, sa-si defineasca strategiile pentru atingerea scopului, crearea unui timeliner  pentru a se incadra in termenele stabilite , sa inteleaga criteriile de evaluar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99ff99"/>
                          </a:solidFill>
                          <a:latin typeface="Arial"/>
                        </a:rPr>
                        <a:t>se utilizeaza la inceputul demararii proiectulu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Ajuta elevii sa-si planifice activitatile si sa urmareasca in permanenta stadiul propriului proiec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Checklis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Promp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Form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2.Developing Independent Learners </a:t>
            </a:r>
            <a:br>
              <a:rPr sz="4000"/>
            </a:br>
            <a:r>
              <a:rPr b="0" lang="en-US" sz="4000" spc="-1" strike="noStrike">
                <a:solidFill>
                  <a:srgbClr val="b2b2b2"/>
                </a:solidFill>
                <a:latin typeface="Arial"/>
              </a:rPr>
              <a:t>(Dezvoltarea invatarii independente)</a:t>
            </a:r>
            <a:endParaRPr b="0" lang="en-US" sz="4000" spc="-1" strike="noStrike">
              <a:solidFill>
                <a:srgbClr val="b2b2b2"/>
              </a:solidFill>
              <a:latin typeface="Arial"/>
            </a:endParaRPr>
          </a:p>
        </p:txBody>
      </p:sp>
      <p:graphicFrame>
        <p:nvGraphicFramePr>
          <p:cNvPr id="114" name=""/>
          <p:cNvGraphicFramePr/>
          <p:nvPr/>
        </p:nvGraphicFramePr>
        <p:xfrm>
          <a:off x="457200" y="1600200"/>
          <a:ext cx="8435880" cy="3787920"/>
        </p:xfrm>
        <a:graphic>
          <a:graphicData uri="http://schemas.openxmlformats.org/drawingml/2006/table">
            <a:tbl>
              <a:tblPr/>
              <a:tblGrid>
                <a:gridCol w="2602080"/>
                <a:gridCol w="1944360"/>
                <a:gridCol w="2089440"/>
                <a:gridCol w="1800000"/>
              </a:tblGrid>
              <a:tr h="110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7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Self-Assessment and Reflection</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evaluare si reflecti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Furnizeaza elevilor oportunitati de autoevaluare, monitorizarea propriului progres, imbunatatgandirea, invatarea, si reflectarea la unele metode de imbunatati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de parcusul proiectului ori oral, ori prin conferinte sau in scri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Checklists </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3"/>
                        </a:rPr>
                        <a:t>Prompt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0T08:35:23Z</dcterms:created>
  <dc:creator>Carmen</dc:creator>
  <dc:description/>
  <dc:language>en-US</dc:language>
  <cp:lastModifiedBy>Carmen</cp:lastModifiedBy>
  <dcterms:modified xsi:type="dcterms:W3CDTF">2008-01-04T08:01:39Z</dcterms:modified>
  <cp:revision>74</cp:revision>
  <dc:subject/>
  <dc:title>Diapozitivul 1</dc:title>
</cp:coreProperties>
</file>